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952-2935-4299-80ED-3F709F2D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8C6-B917-4760-9CF5-45B668FD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47B-AC09-4986-A989-1888E7A4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3716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355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6998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1FE-E8EF-4DE8-B1C0-F83FF4DB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2D36-C7FB-483D-AB61-8648DCAC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EE92-0155-4910-9F9E-4E59E44E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8070-86DB-46AC-B121-DBC137BD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42CF-9941-46A9-B4C4-3F413699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1674-7804-4BE2-90BA-0595F6E5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B995-2045-4F0F-993F-838CDE31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4493-F886-495C-AC44-934AABB3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CAA-20A5-4058-A81D-86C2E505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4365-ECE4-4864-8B37-5216187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59E4-01EA-4B60-862A-00C83D60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C96F-638B-4CAF-8EC5-2B728AFB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F6EF-0AD3-4D59-AC59-841DEED2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3716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5355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6998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8AE0-E69F-44F3-9D64-7D20503B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55B-20F7-459D-8DE7-76C6B56E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172-2474-4164-8D3E-878F1DED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8F0-CDC3-4681-ACC9-539101E4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1B1-39F1-4D36-8E39-7E77A215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5AE-EF69-443F-BEB2-CA685AE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ECF-DDED-434A-B1C2-9DFED6DA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0A1-6EEF-4276-9F51-A81220F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B192-57F1-48E7-9E11-1B9739754E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39C9-0C31-4ADF-8320-09BC490879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Trade Liberalization for Global Growth: 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Agenda for WTO and G20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755640" y="3885840"/>
            <a:ext cx="77040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ng 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rector, Center for International Political Economy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eking University, PR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ember, World Economic Forum Global Agenda Council on Global Trad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riving forces behind PT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lobal value chain, and economic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mpetitive liberalization, pressure from trae liberalization of other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litical and security considerations, to help solve security dilemma, and serve grand strategy(TPP as part of US Pivot to A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40000"/>
                </a:solidFill>
                <a:uFillTx/>
                <a:latin typeface="Arial"/>
              </a:rPr>
              <a:t>How to revitalize WTO and multilateralism: Agenda for G20?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sider the value of WTO and the nature of its working mechanism, it is important to move forward creatively, main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uild a consensus on saving the reputation of WTO as platform of multilat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rike a Doha Round deal based on the agreements most countries agre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the same time, open doors to negotiation for 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ssible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Plurilateral Agreement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within the WTO, for example, Information Technology Agreement (ITA),International Services Agreement (ISA), Government Procurement Agreement (GPA) and others, based on higher standard and greater demand by trading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1914480"/>
            <a:ext cx="81536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egulate PTAs, to ensure its discriminatory effects on non-members minimized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udy the globalized economy and its influence on trade patterns, and carry forward Public Education to diseminate the objective and accurate information on tra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Global value chain-based trad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Depoliticization of trade issues in national politics, based on outdated tra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trengthen the WTO rules-based peer review process on trade measures, with further assistance of WTO and other international economic instit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9240" y="429840"/>
            <a:ext cx="8529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The role of WTO in fighting protectionism:Does WTO still matter? 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answer is Yes. WTO rules and agreements cap the extent and amount of possible protection mea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ill yardstick to judge trade measures on one’s own or other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eeth” of Dispute Settlement Mechanism with authority of granting reta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ade policy review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Challeges to WTO: declining political will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 of major trading powers</a:t>
            </a:r>
            <a:br>
              <a:rPr sz="3600"/>
            </a:b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TO’s nature characteriz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ember-dri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ciprocity of negotiation, give and 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volvement of much more members with more diversified economy and developmen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complicated bargai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biggest challenge to WTO lies in the declining political will of major trading powers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compare Doha Round with Uruguay Round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US in particular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impact of the global financial crisis, and rising protec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ak coordination  among the advanced economy members (US-EU-Jap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ow expectation of business community about Doha Round deal and reduced lobbying pressure on governments, to compare with the Uraquay Round (chambers of commer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eveloping countries as a whole came to the Doha Round with increasing skeptism of the benefits of trade liberalization,driven b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slow pace of implementing phase-out liberalization of textile agreement by developed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oncerns about TRIPS tightened protection of IPR and its impact on public health and the cost of IP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oncerns about the weak will of developed countries to reduce the level of subsity to agri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s a result, while the Doha Round is stalemated, major economies pursue PTAs(bilateral and regional FTAs or EPAs), to name some of th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ilateral FTAs: Korea-US, Korea-EU, Korea-India and currently China-Korea FTA, China-Japan FTA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egional FTAs: Trans-Pacific Partnership (TPP), Regional Comprehensive Economic Partnership (RCEP, 10+6), China-Japan-Korea FTA and  EU-US FTA(2013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3:46:30Z</dcterms:created>
  <dc:creator>Wang Yong</dc:creator>
  <dc:description/>
  <dc:language>en-US</dc:language>
  <cp:lastModifiedBy>Wang Yong</cp:lastModifiedBy>
  <dcterms:modified xsi:type="dcterms:W3CDTF">2012-12-11T23:27:28Z</dcterms:modified>
  <cp:revision>9</cp:revision>
  <dc:subject/>
  <dc:title>幻灯片 1</dc:title>
</cp:coreProperties>
</file>