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A35F-C2F6-4837-BFFB-A3F68DBA4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B68-D956-4091-8FFF-56CE03264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50A-46A2-44C7-8766-6176FA16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C29-4B58-4178-B363-08450E55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9F1-95ED-4E6B-BC15-9AFDF3CF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464-B14C-4533-966F-81A149B3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55F-43A1-44E2-843B-3AB2414C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5BE3-0E44-4101-A8B6-A6D0B041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C49-4E99-4F99-B680-44D6A00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3B0-BBBD-47E5-899A-87858CD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830F-AC5D-46AD-863C-FF7359A1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2A91-5FCD-46A6-9BAB-4FB1804C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7EC-7217-4666-B24E-742E217A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4DC-A135-4099-A4D5-581BC41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3212-E163-4398-B9C9-ED70E35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1F95-D749-477C-AB77-22433EC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FC30-202D-4830-8CD7-A7DA753E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98B4-2C42-4710-BCA4-F88134F9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5480-D995-455B-B37E-F220A0D5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251-9D05-4817-A6B0-D47BA99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354-94EC-4A54-BB80-79FA031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2AD-3615-40DC-855A-2CB6F6C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739-8984-481F-9B6D-EF1124E0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560-F72C-4906-9AF8-A8905C9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D8B-09A9-462E-956D-3990E89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CC8-B703-4E06-A5BB-B63AB0C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F23-7A86-44ED-8A0C-33DD01132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75A-A6D8-4EC1-9C22-92083CC1E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1916280"/>
            <a:ext cx="734544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 area policy options to combat the debt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ian Dreger, DIW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d euro area approach to combat the debt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ondition is decision to keep the euro area as it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coordination than fiscal packages in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 of a new policy mix o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ight fiscal consolidation in healthier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scal union can reduce adjustment capacities to respond to country-specific sh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us programs in the Southern member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B as a lender of last resort for euro area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budget focuses on growth, less on converg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 area out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484280"/>
            <a:ext cx="8002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 of low growth ahead in the euro are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nation or recession in core countries (Germany 0.2, France 0.2, Spain -0.3, Italy -0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rman growth vulnerable, almost 50 percent of exports delivered to euro area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cal consolidation due to government debt crisis reduces growth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confidence and high unemployment limit expansion of domestic demand in most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period might be long lasting, especially in Southern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llovers to global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28640"/>
            <a:ext cx="778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ro area crisis risk for sustainable development of glob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na heavily affected by crisis, no stand-alone pillar for glob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pone economic reforms in emerging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risk for protectionism and disintegration in glob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ce towards currency depreciation, exports become more important in growth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nation difficult to combat, as policy measures seems to be exha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debt and GDP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mpact of debt to GDP ratio on per capita GDP growth in euro are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in periods of non-sustainable deb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are not detected for non EA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Dreger and Reimers (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monetary union may entail specific risk for its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risk of sovereign default due to no bail out rule, prohibition of ECB to finance gover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system of macroeconomic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cal consolida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ageing implies higher financial burden on social securit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ure especially in pensions and 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run growth perspectives can improve if public finances are on sustainabl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reliability of plans of households and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ingness to consolidate underpinned by fiscal 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related to the long run, short and medium run effects are neg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strategy indispensable, but need to be extended by other measures to ensure its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new policy m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" y="1557000"/>
            <a:ext cx="8002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tained consolidation over long periods not very plau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ters will not re-elect their gover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ve austerity measures can undermine the EU2020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run effects limit long term growth persp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strict consolidation may stimultate growth in euro area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 exists especially in healthy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conomic zones to reintroduce growth in the Southern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 for monetary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28280"/>
            <a:ext cx="793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cal expansion can increase risk premia in financial mar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feasible without support from monetary s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s issue debt in a currency beyond thei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guarantee the repayment of deb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onfidence in financial markets can raise interest rates to levels high enough to make any country in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der of last resort for the individual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nder of last re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uy bonds in capital markets when solvent countries come under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ight monetary transactions (OMT) started Sep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pirals of eroding confidence and higher interest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nder acts if interest rates reach critical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by ESM might serve as an obstacle fo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SF/ESM funds may assist, but no major ro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not sufficient, designed for crisis at the periph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size could lead to lower country ra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ality implies overshooting of reforms if market rates are driven by speculative r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esigning the EU bu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84428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ructural funds not optimally used in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ffects on economic convergence unclear, evidence depends on empirical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spite additionality principle, funds seem to crowd out national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unding agriculture has high opportunity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-financing impediment in periods of consol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conflict between convergence and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or institutions in suffering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er evaluation of growth effect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18:03Z</dcterms:created>
  <dc:creator>Christian</dc:creator>
  <dc:description/>
  <dc:language>en-US</dc:language>
  <cp:lastModifiedBy>Christian</cp:lastModifiedBy>
  <dcterms:modified xsi:type="dcterms:W3CDTF">2012-12-10T13:31:52Z</dcterms:modified>
  <cp:revision>2</cp:revision>
  <dc:subject/>
  <dc:title>Euro area policy options to combat the debt crisis</dc:title>
</cp:coreProperties>
</file>