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DB6-8E4A-471D-8B72-FF31F770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D64-3871-4E63-A106-54FD92E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0AA-B858-4CF8-A9AB-0704868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2FC-99FC-44F0-8EA1-0568945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04A-8931-4B22-8488-C407AE4F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B90-54BC-4E34-ABD3-AA67104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F82-1E2E-487D-944C-D7C2B74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3DF-EEAD-49D4-A1F9-7727FF6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F9B-87B5-4A4B-ACBC-70D67F5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206-8466-48BC-8B3C-7E0D6FE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2AD-B708-4EE1-A5D9-C76E862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19A-E7D4-41AB-93E8-79059B6D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5F56-0199-4C8C-B5B0-23AEDA32F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 G20 Should Initiate a Multilateral Investment Agreemen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1148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nders Åsl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eterson Institute for International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ink 20, Mosc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December 11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ifficult to agree on conflict 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ome countries oppose M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ossible Solutio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86680" indent="-88668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rilateral agreement within the WTO leaving opponents o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86680" indent="-88668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ving conflict resolution rather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86680" indent="-88668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: Continue to broaden regional investment agree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need for an MIA has never been great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obstacles to an MIA have never been small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ut after 9 years of no discussion a major impetus is needed. The G-20 could provide that, and Russia would be an ideal initiato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urpose of G-2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o initiate major projects or policies outside of the agenda of ordinary international organ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y the G-20 Should Promote a Multilateral Investment Agree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ign Direct Investment is huge and has skyrocke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I has become rather balanc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ts of international investment treaties show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TO is the natural 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G-20 Should Promote a Multilateral Investment Agreement (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FDI is huge and has skyrocketed: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rom $27 billion in 1982 to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$2.2 trillion in 2007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= Increased 100 times in 25 year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G-20 Should Promote a Multilateral Investment Agreement (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DI has become a rather balanced two-way strea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ultinational corporations (MNCs) belong to both developed and emerging econom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ward FDI: 1980-20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hart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ward FDI: 1980-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hart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G-20 Should Promote a Multilateral Investment Agreement (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n need for standardized international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nd 2011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,833 bilateral investment treaties (BI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31 other international agreement with investment protection (mainly FTA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G-20 Should Promote a Multilateral Investment Agreement (4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WTO is the natural venue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Negotiations in OECD failed in 1998 – too small group and not limited to OECD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rade and investment are ever more integrated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No competing agency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Was part of Doha Round but dropped ou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9:45Z</dcterms:created>
  <dc:creator>natalia.aivazova</dc:creator>
  <dc:description/>
  <dc:language>en-US</dc:language>
  <cp:lastModifiedBy>Атанова Юлия Андреевна</cp:lastModifiedBy>
  <cp:lastPrinted>2012-12-09T16:31:01Z</cp:lastPrinted>
  <dcterms:modified xsi:type="dcterms:W3CDTF">2012-12-13T10:44:26Z</dcterms:modified>
  <cp:revision>12</cp:revision>
  <dc:subject/>
  <dc:title>The G20 and A Multilateral Investment Treaty</dc:title>
</cp:coreProperties>
</file>